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AE0E-E42F-4CA0-8B80-62759A76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or everyone- specials, special education, differenti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Reading/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Levine power point an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ways to promote questioning in your class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your first units of study for the upcoming year, generate lists of questions that get at the heart of understa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 Impor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= Prior knowled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Syn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= Mental Im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= An Inference (conclusion, judgement, belief, opinion based on tex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=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= Confirmed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/C= Prediction Disconfirm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I don’t understand a word or 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= Problem 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this part surprised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= I need to talk to some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Mosaic of Thought, Keene &amp; Zimmerm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263-0989-48BE-B372-8D17374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7A6-43CD-4D62-A897-B0465DDD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0EE-BDB0-4952-BCCB-4CF4F94D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347-8533-4152-B922-9F1EB64F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58A-B635-4B9A-B8D6-0CF8BF1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1A4-9508-4C81-B76E-FFD4DF2B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253-1D91-4C70-AE90-998AB7A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D17-0735-451D-9D5E-39E9FD4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784-F572-48E2-AF81-D946903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B5A-5047-499D-824E-F4DE862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BC0-F988-45C4-8E9F-ECB6FAD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1D5-59E5-459E-8965-014148A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4892-E2CD-4137-9A5B-F6EDF8C7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usingquotes.com/h/d/Eugene_Ionesco_Decouvertes_1.htm" TargetMode="External"/><Relationship Id="rId2" Type="http://schemas.openxmlformats.org/officeDocument/2006/relationships/hyperlink" Target="http://www.amusingquotes.com/h/d/Eugene_Ionesco_Decouvertes_1.htm" TargetMode="External"/><Relationship Id="rId3" Type="http://schemas.openxmlformats.org/officeDocument/2006/relationships/hyperlink" Target="http://www.amusingquotes.com/h/d/Eugene_Ionesco_Decouvertes_1.htm" TargetMode="External"/><Relationship Id="rId4" Type="http://schemas.openxmlformats.org/officeDocument/2006/relationships/hyperlink" Target="http://www.amusingquotes.com/h/d/Eugene_Ionesco_Decouvertes_1.htm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empus Sans ITC"/>
              </a:rPr>
              <a:t>Classroom Practice in Cues an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 that Elicit In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ic 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 forward ways of activating prior 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and Essential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ing questions to guide students to a deeper understanding of the topic being studi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higher level questions that guide students’ ability to analyze and critique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396252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Inferential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33760" y="380880"/>
          <a:ext cx="47102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3760" y="380880"/>
                    <a:ext cx="4710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utting Questioning into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e nonfiction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e the Question Cues from Bloom’s Taxonomy to create three questions about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Knowledge or Comprehension (Right There/Lit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Application or Analysis (Think and Search/Infer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Synthesis or Evaluation (On My Own/Evalu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repared to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Assessment –Constant questioning to check for understand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ttributes of good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at teacher-supplied anonymous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scoring guides to evaluate real work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w/one criterion and exp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se anonymous work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practic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learning targets and essential concep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e with others about their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n they are nearing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76520"/>
            <a:ext cx="84582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6488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puis and Stiggins, “Classroom Assessment for Lear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October 18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/Assessment/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How do we assess students “for learning?”  How can our use of questioning as a literacy strategy inform our practice and improve student achievement?  What is the purpose of assessing students on a consistent ba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the answer that enlightens, but the question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ugen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onesco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couv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81280" y="990720"/>
            <a:ext cx="22575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Faculty Meeting Focus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“The Power of Communicati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Developing student communication skills to build student proficiency/mastery throug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ading-Writing in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udent Talk – Discours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xplicit Reading Comprehension Instruction: Before, During and After (B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Focusing on the learner through ongo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aracter Education: Building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81680" y="24382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October 18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/Assessment/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How do we assess students “for learning?”  How can our use of questioning as a literacy strategy inform our practice and improve student achievement?  What is the purpose of assessing students on a consistent ba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Professional Learning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each student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know when each student has learn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respond when a student experiences difficulty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133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eaching Reading Comprehen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ing: The Strategy that Propels Readers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Nurture Wonder and Promote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Hold class wid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ead aloud and Think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d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dentify 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Play question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nstitute a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ead newspapers and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cerity vs.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1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incer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don’t know the answ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ponder and wonder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that require further research by both teacher an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076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ssessment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know the answer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 in order to check or monitor 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41958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37:11Z</dcterms:created>
  <dc:creator>North Rockland High School</dc:creator>
  <dc:description/>
  <dc:language>en-US</dc:language>
  <cp:lastModifiedBy>North Rockland High School</cp:lastModifiedBy>
  <dcterms:modified xsi:type="dcterms:W3CDTF">2007-10-29T14:09:25Z</dcterms:modified>
  <cp:revision>9</cp:revision>
  <dc:subject/>
  <dc:title>Make It Happen  Power of Communication 2007-2008 </dc:title>
</cp:coreProperties>
</file>